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0BC-475E-4F2A-A138-81CACA53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6D3B-AB95-44AC-8EEC-04161797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53A-0729-4711-B22A-53F45EDC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188-3291-44EE-A30B-7C9C9D65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CD27-52EA-4A34-811D-BE51CAE8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D944-8B6A-4EF9-B7A9-EF116EF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EE4D-EA89-47C2-8004-BF9568D6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35719-9913-4BAB-A57D-4A29185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A1C9-A0EB-4660-B21E-859CF1EE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291B-FAE4-4C8C-AB37-EC68EEAC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2A4E-5F25-4671-9018-EDD500A5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F1B1-BCD1-426E-A4D2-286E1FC7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50AB-7316-49E6-ACEE-6E8605B4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CA3F-5DA9-4DF6-A094-8CEE674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1CF4-35BD-4A0F-A15D-E509E716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D9A-D807-442A-905B-76326DA4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7CC-CBE0-49FB-AB60-1A4082D0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0B5-4A58-451B-AAAB-D0D9C84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8BC6-D450-44C2-ACD2-7A9C391D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5C8-D872-4D68-8FA6-C3902C6F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0CC-8C71-4C4D-9198-E86D320F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A65-A8FA-401A-AA77-A090CA52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B0D-C787-4103-8B6C-D6DFF35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8F3-8AE6-4F45-A1BD-D67E195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304920"/>
            <a:ext cx="8458200" cy="640080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017C-7EA7-4307-8B2A-98E925CEF2E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C4A5-41B7-4CEF-BD6A-EA688078BF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304920"/>
            <a:ext cx="8458200" cy="6324480"/>
          </a:xfrm>
          <a:prstGeom prst="rect">
            <a:avLst/>
          </a:prstGeom>
          <a:solidFill>
            <a:srgbClr val="000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A607-3106-4E31-BF54-C71FCB35B2E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B65-9FD0-4627-9FC2-14EFDBE771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ARBOHYDRATE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CHAOS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ology 122 – Carb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olecular shape of sugar in water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ing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process used to form a disaccharid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hydratio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ild a lactose!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+ galact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dehydration synthesis you (add/remove) water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ing water to a disaccharide to help break it down into monosaccharides is called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dro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ny monomers of sugars are called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lysacchar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examples of polysaccharides ar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ch, cellulose, glycogen, chit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ild a fructose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+ sucr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do plant cells store for their energy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imals store excess sugar as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yc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are the 3 elements in ALL carbohydrate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rbon, Hydrogen, Oxy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ere can we store glycogen (2 places)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and 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dietary form of cellulose is called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b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a Maltose (including the bond!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 – glycosidic bond - 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gars “love” water:  polar/soluble, therefore we say that they are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ydrophi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n alpha-glucose molecule, how are the hydrogen and hydroxyl group of carbon 1 attached?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hydration Synthesis is also known as a ____________ reaction as water is removed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 oligosaccharide has how many carbon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wo monosaccharides form a….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acchar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ne way to identify a sugar is that most have the ending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 Simple Sugars are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, Fructose, Galact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emical Formula for Glucose is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Chemical Formula for a “triose” sugar would be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Your BLOOD SUGAR is what sugar…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ifferent structures, but the same formula is called an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o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0:08:14Z</dcterms:created>
  <dc:creator>lisa.holyokewalsh</dc:creator>
  <dc:description/>
  <dc:language>en-US</dc:language>
  <cp:lastModifiedBy>nbdoe</cp:lastModifiedBy>
  <dcterms:modified xsi:type="dcterms:W3CDTF">2007-02-28T18:22:27Z</dcterms:modified>
  <cp:revision>4</cp:revision>
  <dc:subject/>
  <dc:title>CARBOHYDRATE CHAOS</dc:title>
</cp:coreProperties>
</file>